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3D71F-86A5-4D2B-A217-C850EF060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5306C-50E2-453C-BA6A-5BDAFA288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FDA8E-1331-4BFC-A151-A97DD5299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FDAEF-85B7-4646-A518-F7796D7EE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35D5E-FC87-436D-99F2-AB30894DF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3EFE7-D5AD-47AF-B903-03CC1C61A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D35F4-0725-42D2-A23A-B344F84C4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F5A6E-02FF-40B2-B7AD-FAE7996E0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94AE0-8CC2-45F6-9BD0-AD6C8E155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A4734-1636-41F8-B3C4-D7EC4E9B2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3DC24-D198-4645-BF50-883658B78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DC722-E5D8-48BD-9EAC-1266DE8E5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BE4DFB-CCBE-4CD2-8591-180C7602D5F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6000" y="1346040"/>
          <a:ext cx="8445240" cy="7061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45240" cy="70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3-12-11T09:27:08Z</dcterms:modified>
  <cp:revision>91</cp:revision>
  <dc:subject/>
  <dc:title>No Slide Title</dc:title>
</cp:coreProperties>
</file>